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CCA-2142-460C-9250-1A4FBB80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7630-89F4-4DF7-B1B6-05C62646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AC9-F1F5-421B-A313-8D68B2BE6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DD2-F394-497F-90CD-397256F8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F436D-83FA-4BFB-A411-DC2E8F48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F6FB-888C-42D7-94B8-756FB1A7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D4804-2849-4FFC-AB7A-CADE66B62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5EE0-80F0-4E61-9808-8E48F327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7F96-5450-479E-A667-143639BC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0F6-1CC7-4923-8042-22E6E289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7F04-874E-4863-9203-B5A36EDD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1E1-2915-4B17-A6FB-C9291712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AD0-49EF-450D-AD54-C4F0F2E0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92E0-AFAE-4066-BFD7-F69EFFFA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3E20-79A0-4FD4-B5DA-284C05AA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9F617-8A5E-4226-9F9D-FC7D6B068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BCB0-6A92-4EA4-BE88-0031E3C8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7158-F541-4C3E-986C-DC44B26A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087-50D7-416E-BA16-4AE1BBB6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486C-A22A-418E-848F-B02050EAF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AB0-5F4C-4ECA-BA13-3359D25D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3D0-B83C-4A95-B8E8-56C760BC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4C2D-BC30-4D12-8BCE-36F91CC6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100B-75EF-474D-A08C-2F9D5C9E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206-8616-4E80-8D72-B23143F51B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5C5C-22F9-4DC2-92A2-5AFE988CB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177D-A30C-48E8-AEA9-8FCDA420C6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0B07-5A7C-460B-9474-20EA5BFF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urs for Turneringsledere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øtte til gjennomgang av lov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15C8-86C9-45A5-8696-38CC5A84C69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C35A95B-5A16-4C3F-8C24-3C1B29950FC0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utmålingen § 1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A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ngen straff i lov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Umulig å spille map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onet feil str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12 B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Ikke lov til å avvike fra de straffene som er fastsatt i lovene f.eks for 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12 C 1-3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pluss 60%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ddels minus &gt;&gt;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feilende får normal sannsynlig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ilende side får verste sannsynlige s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Det er lov også for TL å ”veie” en sc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408-7AB5-40C4-A087-5FFF53965A1E}" type="slidenum">
              <a:t>1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1AF0C-9622-4BCF-AEEF-E4F6A427008C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ttmessig informasjon § 1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All informasjon som ikke kommer fra normalt spill eller meld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urettmessig informasjon fra makker er forbu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uk av informasjon som påtvinges fra andre kilder er forbudt, men erstatning 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sjon fra meldinger og spill som er trukket tilbake er ulovlig for en feilende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Når det finnes mye ulovlig informasjon så er det ofte umulig å fortsette et normalt spill. For eksempel når begge par har gjort feil som har ført til tilbaketrukn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9F59-D698-4813-A1FB-FAEB046E4B2F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F2D5E-15A0-495E-8313-8E9349BEA1BA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17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meldingsforløpet slut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ørg for at meldekortene ligger på bordet til meldingsforløpet er slutt etter l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0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år er det tillatt å be om forkla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1Om melding basert på ukorrekt opplysn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§21B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ør åpningsutspillet er snudd kan den av motstanderne som passet sist endre sin melding når spillefører eller blindemann retter en ufullstendig eller feil forkla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ten som svar på spørsmål eller etter plikten i §75D2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7E69-5B7E-4C46-BDBA-9A18969C3FD8}" type="slidenum">
              <a:t>1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44574-660C-4594-A03D-FC51A5741992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2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3 skade ved tvungen pas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te er IKKE et sikkerhetsnet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 ! bare når ”den feilende spiller kunne vite at den tvungne pass sannsynligvis ville skad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24 om fremvist kor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vens bokstav betyr her at spillere som ser på hverandres kort før åpningsutspillet er snud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legge alle kort synlig på bordet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Må passe resten av meldingsforløpet dersom en feil forklaring fører til flere melding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5DF-D747-480E-A3C1-AB15C9194EDF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D7224D-C97A-4415-8FFA-CD9431617454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3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25 B 2 er vanskeli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uleringen ”DEN SIST AVGITTE MELDING BLIR IKKE AKSEPTERT” betyr at spilleren allerede har byttet ut meldingen sin når denne paragrafen skal  bruk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tilby spillerne å bruke 25B2b2 når du ikke m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26 er en viktig støtte i svært mange andre paragrafer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A: Bestemt farge eller farger f.eks spar eller kløver og ruter gir rom for krav og forbud i disse far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§26B: Andre meldinger f.eks pass, dobler, NT, viser spar og minor o.s.v gir rom for å nekte en hvilken som helst farge i utspi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C905-3975-4458-8009-3652CBAE28D3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E05D7-5483-418B-A680-3ECE0AB3604B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4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27 Utilstrekkelig bu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 må ALLTID få sjansen til å godta meldi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e mellom naturlige og konvensjonelle b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kke tillatt å rette til Dobling eller Redob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28 Om rekkefølgen av meld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lding av spiller i tur annulerer melding utenfor  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Dette er greit dersom det har skjedd ved bordet, men det er ikke et tilbud etter at TL har kommet til bord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466-C772-4D0A-BECB-E3EB5905B486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2122B1-F89B-488A-93FB-E9C8CFB69A93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5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§ 29 A gir VM rett til å godkjenne alle (lovlige) meldinger utenfor tur. Dersom han godkjenner en melding som er ulovlig etter §35-39 så annuleres den ulovlige meldingen og alle etterfølgende meldinger uten straff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§ 29 C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erk at konvensjonelle meldinger utenfor tur som viser en bestemt farge eller bestemte farger så gjelder reglene i § 30-32 disse fargene og ikke benevnels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.eks spar og en minor er ikke bestemte far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8BC5-3F25-4B90-966C-08131B6043D5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237DB-21BE-4A51-B18D-23A745F0F727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6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§ 30-32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knisk kompliserte paragrafer som skal dekke nesten alle tenkelige varianter  og med nøyaktig beskrivelse av hva som skjer etterpå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Husk referansene til §26 og §23.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imes New Roman"/>
              </a:rPr>
              <a:t>§ 16 C nevnes sjelden, men all informasjon fra tilbaketrukne meldinger er ALLTID urettmessig informasjon for den feilende side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33 (og§58) viser at når ting skjer samtidig så skjer de etter hverandre i slik at spiller i tur handler først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34 fastslår at melding utenfor tur ikke fratar noen spiller  muligheten til å meld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0819-0329-4454-A2AF-2AD8086C2674}" type="slidenum">
              <a:t>1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74927E-C6E1-4462-99E1-0ACC7A18B65D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eldingsforløpet §17-§40 7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0 er en sentral paragra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ten til å melde og spille som en v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julte makkeravtaler er forbu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emmelser om konvensjo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Det er mye tilleggslitteratur om dette med psykiske bud tillate systemer og konvensjoner m.m.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alltid oppmerksom i grenselandet mellom skjulte makkeravtaler og psykiske b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Vær svært skeptisk til psykiske bud som reellt sett er bruk av forbudte konvensjo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BFB4-883D-4DC4-B16C-92A5B357D824}" type="slidenum">
              <a:t>1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2AB78B-D786-4F70-90FF-687A1F53A878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ystem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BF har påbudt bruken av system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n enkelte arrangør kan komme med påbud som også kan si at et bestemt system gjelder, eller at manglende systemkort fører til at et forhåndsutfylt kort deles 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vvik fra system når det ikke finnes systemkort eller annen dokumentasj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L skal tendere til å dømme feil forklaring og eventuelt ulovlig konvensjon når systemet ikke kan dokume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D79F-3DC6-4313-8F04-E8D322653428}" type="slidenum">
              <a:t>1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5887EB-2984-4273-89ED-0C946AB5FA1C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Mål for kurse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Kretsautorisasjon som turneringsled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unne arrangere lokale turner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ovkunnskap og dømm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Regnskap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manuelle metod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ruke dataverktøy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Organisering av 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esentasjon av resulta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AD3-2479-4A68-9B19-653C793EE14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4A7ED-9C3C-4514-BF70-409D8FE7FF24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kjulte makkeravtal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Når systemet er slik at en del hender er ”umulige” å melde, blir nødløsningen lett en skjult makkeravtal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Åpning 1 NT med singelton, 1 Hp for lite eller 1 HP for m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var 1 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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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med 3 k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Melding 2/3 </a:t>
            </a:r>
            <a:r>
              <a:rPr b="0" lang="nb-NO" sz="20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nb-NO" sz="2000" spc="-1" strike="noStrike">
                <a:solidFill>
                  <a:srgbClr val="ff0000"/>
                </a:solidFill>
                <a:latin typeface="Symbol"/>
                <a:ea typeface="Symbol"/>
              </a:rPr>
              <a:t>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som krav eller holdvisende uten lengde os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du tar en sjans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ker 1 kl HM:D du har 3343 og  0 hp og melder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ko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Avtalen: Pass viser minst 5 klø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kjult avtale:Pass viser en fryktelig dårlig hånd jeg håper at VM løfter oss av kroken  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D6A-0993-4EBF-AAFE-8DBEECBE4195}" type="slidenum">
              <a:t>2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DFD51-E19F-482D-B6B6-76C07A0BC3F6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Ingen makkeravtaler ?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rsom det ikke er noen makkeravtale eller makker har glemt avtalen så skal melderens makker svare det. Og bare det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var på spørsmål om hva han tror det er hjelper ikke motstanderne og gir urettmessig informasjon til melde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ldingen som er avgitt vil senere enten være makkeravtalen, eller det må avtales noe annet for denne situasj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Når melderens makker har glemt avtalen, kan TL ta ham bort fra bordet og la melderen forkla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vtalen er glemt er også urettmessig informasj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lende systemkort vil ofte bety at meldingen defineres som system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ke vær streng med slikt i sommerturneringe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635-7FC8-475B-B271-2228718013B7}" type="slidenum">
              <a:t>2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F837B-8ECA-487D-A668-BC49C88D4765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pillet: Fremgangsmåt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41 krever fordekt åpningsutspill NB husk §17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ldingsforløpet er gjentatt ved at meldekortene ligger på bord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e kan spørre om betydningen av meld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pillefører og blindemann skal korrigere manglende alerter og feil forklaringer fra makkers side (§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tspillerne skal ikke røpe at makker har unnlatt å alertere eller har forklart feil (75D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B317-9316-45D1-AB90-963E0289A01D}" type="slidenum">
              <a:t>2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98A45-3927-4E63-9108-6025BF6D1798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lindemann sine rett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t er viktig å vite om blindemann har sine rettigheter i behol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lindemann kan idømmes straff etter §90 for brudd på §41 A og B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§ 45 C Tvungent spill av kort fra en hånd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se reglene skal håndheves ganske streng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ær oppmerksom når du skal bruke §45 D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ll av vanvare kan være nesten hva som hel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171B-8B50-4966-8954-2D541CDCFA00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5DF37-6C63-46DB-912A-E91284EE2462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traffekor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Bare motspillere kan få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meldingsforløpet kan bli straffekort dersom spillefører vil d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t som er vist under spillet er alltid straffekort (unntatt når TL straks bruker §72B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oter hva som er et lite straffekort og et stort straffekor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spiller har flere straffekort som lovlig kan spilles, kan spillefører velge hvilket straffekort som skal spil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D77-A2FB-478C-97C2-8FECEF843C8B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08F121-2FE6-4A77-9731-BA9CFA42A7B7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2D83-2E61-49AF-AB6F-5799F654F32C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33DE1A-A081-48C9-97BE-0B2C21C78FF1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dskapene i ledelse av Bridgeturnering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Vedtatt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nasjonale lover 1997 utga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sitt reg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tillatte meldesyste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F regler for bruk av alert og sto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”</a:t>
            </a: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tøtteregler”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nutes”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Commentary on 1987 Laws (Endicott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Anbefalinger fra W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urneringsoppsett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Tävlingsleda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ataregnskap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A92-97AF-4E55-AE40-0951FE07E59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458F05-2410-4DBD-8386-A841CFC4638D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Definisjon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Uregelmess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Meldingen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Spill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remgangsmå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raffek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tikk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Krav og avstå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Etiske regl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300D-FCF4-475C-8C0E-35B1D1FE4702}" type="slidenum">
              <a:t>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FADC12-D665-4E6B-9213-78CDD0F0976D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Lovboka 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gnskap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rrangering av turnering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urneringsledere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varsområ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gjør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rrigering av uregelmessigh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ffebestemm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l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Utfyllende bestemmels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par eller singel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Stedfortredere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Rettigheter med hensyn til plassering i lag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ppendix om bruk av skje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057D-F602-42D9-B6DB-A25F49A461B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560E1D-2A79-4E9B-9ACB-4244CE8012F2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Definisjon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 gjennom plansjene fra lovboka og vær nøye med definisjonen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k f.eks forskjellen mell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UD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ELD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g merke til definisjon av konvensjonell mel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84CB-9172-4D6D-A578-8B814F3FDB8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A2D662-FB4E-45FF-B900-2AFB89DEBAD9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Kapitel II og III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orberedelser og gjennomfø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ildeling av p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iv og omgi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Kontroll av mapper og k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vvikling av ru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FB5C-0317-482A-BA70-EB71744ED9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3D11B-27FE-4230-933E-86020DCCF28D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Uregelmessighet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vordan og når uregelmessigheter påtales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tildele straff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Retten til å anvende skjøn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korrekt antall kor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pill av feil mapp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Urettmessig informasj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0E7D-9BDF-454F-8EC2-DC697E8F33B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0543E-7AE3-42D8-8C5C-5ED911325807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Retten til å straffe §11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er alene om å kunne tildele straff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TL skal forklare alle valgmulighe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Når en spiller skal velg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gen konsultasjon mellom makkere ved valg mellom alternat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Retten til straff kan tap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d å spille eller mel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år en tilskuer ”som er din venn” sier i fra om uregelmessigheten    (se også § 7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280-FA28-4A5A-9DA6-B8B446B458E6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B9C8D-CD80-444C-A046-30279F2CB0C1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17:30:15Z</dcterms:created>
  <dc:creator>Per Nordland</dc:creator>
  <dc:description/>
  <dc:language>en-US</dc:language>
  <cp:lastModifiedBy>Per Nordland</cp:lastModifiedBy>
  <dcterms:modified xsi:type="dcterms:W3CDTF">2002-04-17T23:10:54Z</dcterms:modified>
  <cp:revision>5</cp:revision>
  <dc:subject/>
  <dc:title>Kurs for Turneringsledere</dc:title>
</cp:coreProperties>
</file>